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F2C-B29D-4776-9730-5211ABF6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938-48AC-4DCB-8B90-6C733EDA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B51-48CC-4615-8980-C2EA3BDE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AEC-FB5C-4312-A02B-29736FD8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126E-7D85-4270-BB21-F0B0B213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28BC-9513-42F6-81EA-B7B143D8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6237-0124-471F-8364-9A1227A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8B83-7922-4610-ABD8-9FB86A04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9FD5-CB50-4B7C-83DF-17A4168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D2E-DAC5-4987-B706-3454D89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03A6-7596-4A22-94FC-1D776E7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C27-1373-486E-BABA-B5BA321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0157-CF27-46E8-A51F-CB469100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D14-4573-444D-8DDE-89F530F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75B8-9CE2-4EF0-9940-4F0AB71F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359-FC15-469D-A1AD-CAEF9507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1BEE-3638-4275-A128-1727F8C9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BD0-E12E-4286-B301-5BB2DC5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A17-B7A3-4153-BBA4-BFA1199C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88A-76B7-462F-8F0F-5D3F2239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8CC-615E-4F77-9A42-D798175F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5AE-771B-4C64-BA1C-22D9C5E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E68-29DC-4DA9-A1C5-6F6151CC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2C9-4A93-4667-8841-712C91E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FF18-CD8E-47AC-978C-1886224DB6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7F7-04C5-438F-A21F-7F8E75FE6D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жарная безопасност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9320"/>
            <a:ext cx="812160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работки и формирования фрагмента пояснительной записки ПОС и ППР в части мероприятий по противопожарной защи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ам пожарной безопасности на строящемся объекте; пожарная безопасность зданий и сооружений; системы противопожарной защиты; пожарная безопасность при проведении строительно-монтажных работ; требования к проведению пожароопасных работ; обеспечение безопасности людей при возникновении пожара; ответственность за организацию противопожарной защи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9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93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47894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6480" y="1343160"/>
            <a:ext cx="74246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0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579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322280" y="1347840"/>
            <a:ext cx="694224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4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183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46320" y="1380960"/>
            <a:ext cx="6949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922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24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противопожарной защите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79480" y="139392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39:52Z</dcterms:modified>
  <cp:revision>255</cp:revision>
  <dc:subject/>
  <dc:title>Слайд 1</dc:title>
</cp:coreProperties>
</file>